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7EA4-0FB1-45E1-B309-DF97AF677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2C8C-C8D7-49BB-A5F9-957BE48ED43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DCAD-B24A-41CF-86C5-C2C56AD2979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7D96-3299-4D02-AB8B-24A1D37E8E42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866B-7853-4B66-A143-71CA566E435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CD8E-C304-4066-8936-244EBCEA29F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D0EC-8450-4105-AD28-3B44B2508F3B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3DBF-6952-4234-9990-554C0A486D1B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5521-AAB1-4158-86A6-EA5FFC6EDB4A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B6BF-B687-49C6-BA9C-F3DEA4F6C429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61D-AA60-4990-8A85-36BB7FB1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54D-25AF-441F-B1CE-2B620D7D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772-F401-4F21-9F8B-73288AC1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016-B272-4892-9877-65012315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8B45-737B-447F-832D-565C1E23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3CE9-22F5-42C5-A0C2-5178737F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5AEA-A817-40C2-9DC6-076BC1DC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7CF2-35D0-4AFF-90E9-3CB092A8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228A-F2C8-4CE5-A064-E8A96E32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D552-A0C2-4C56-97F7-EC61B3DA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F873-B8C5-4C68-A16C-B8968931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BD0-9C4E-4A69-9F51-05B4F123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18B8-138B-43E1-9645-5F9DD715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7217-1221-4E59-8D86-52BF733D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DF29-781D-4323-8905-43937F6D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F77D-C9E0-4512-9353-9FD3AE4E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3789-24B3-4F05-8B97-22945D1D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5995F-3594-4345-902B-89C16C98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8F59-2634-451C-964E-C207AE9D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7918A-C188-4594-B56C-EEE8D1DA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75A52-E8D1-4AF1-AEFC-295855C7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6C09-93C4-4B3D-891B-44934E64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901-7B67-4721-8DB8-DA09611C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50A7D-00BC-456A-87CA-F9878F3B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3FD8-0540-4734-BCE6-216F7052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3DC5-D831-4E90-8761-937E3D6C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0B7B8-C8E8-438D-9853-AD99FA85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DC7F-D47D-443F-BBCD-C47B7892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182D0-C46E-41D2-988C-F9045967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FB0AC-B34A-41F1-97A0-7836A300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A518A-441D-4C92-917E-53BC80EE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9AA3D-D68B-407E-A75B-553F9440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50907-9B59-4BAC-9781-9840F1C7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316-5DCD-4661-B65D-3BD650B7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4379D-3572-40CB-AFC8-B557000B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77041-6DB0-4136-9501-327ED1C4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8F33F-96E1-4DF9-AAE3-3B5954D3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97C87-C594-4656-A028-D415B5F7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0AD26-3AF3-491C-8274-A77A039D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9BF5C-4D18-4CBD-8EBB-45D817AE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0B07A-0435-45AA-B435-6300BD59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CFE5E-6451-40C3-B829-A2E74B93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239FB-86A0-4402-BD0A-4744CCF3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7F5B6-65DB-4C8B-BDF0-35E69614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C13-F75E-4041-83C7-816E1EC9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67D9D-0490-496B-AF45-CB762CC8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BCB87-568E-4146-AA02-C0195CA3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373B1-40CE-41D0-A342-1EBE35B3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3C426-7C17-4AC3-8622-C4C2CDE8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84E1B-12E6-42B5-B49C-B5CAF5C5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6932F-C3AF-44BA-AC4B-7E4B25AF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0A190-2AE3-487E-AE49-F31D4A13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0B6AB-C201-4EC5-95DF-9C6B46DC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560A2-4380-4DFC-9E39-A7BE7591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44CB7-EC4B-4441-82F5-880D0952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6A6-CECA-4659-B61D-07B9D2D3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4FF45-E365-4EFD-B645-A0451B37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5DAB8-3BAB-414B-9CFA-77BEB2CA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86AA8-00DD-471F-ADE0-300AC6DE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395A0-2EE8-422E-8F0C-A031FB16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C677E-CFB9-4645-8C1C-71B295FB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D6C3A-A771-418A-A85D-98B80C4C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DADC5-EFD7-4C72-AFBF-5830498C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D0400-70AB-45F4-98CE-25D3D3F5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1DAE6-E8D2-4A95-8047-3DBB3D43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556DB-0A25-424D-AED5-E45BE429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957-0133-483A-A131-E8B039D6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F699C-B8AD-4DFB-80E0-08847DC8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10C94-B76F-4A79-AC02-47DFC465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78271-037D-4CA5-9E7E-F31A5679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9105E-B7BB-49FB-AD1A-E00366D3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107BE-4195-45E8-82F5-2CCC3E52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109C4-6CB3-4919-BFCF-4FBD29E3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3D877-2633-425F-88FE-4299781E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AA2DA-3B13-4C39-9B37-04D4664C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B4A80-BF9B-4876-96B5-57C2CB8B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DE382-C4EE-4824-B0B6-BE754DC2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4EC-8EC0-4461-A2CA-BCF857A6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334B2-C56C-48B4-AFB2-2635EAD5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1CFA7-2F62-4787-8694-C780ED77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7C712-C997-497E-B1E3-A68B162A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3ABD0-6E8D-4262-8388-DA690051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9D83F-19C3-482D-8253-4D171C6D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D689A-0405-411C-B472-7786860F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761CC-2353-45F2-9CD1-26AECFB0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21121-1ED4-4EA1-A448-8126820D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B9866-963A-4B2D-A975-433FE26E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51029-DC24-48C2-B540-CFC976B6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8D5-809F-41A4-8AB7-1365DF87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48432-F0C8-4D48-8E0B-C069301E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1CB3E-B07B-43FE-AA0C-7930579C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C1BD8-7208-4B10-9A6D-CF2E565B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9689B-53AA-4A4A-87AA-4276A25C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F7642-034D-4A97-ABF2-BC0EA6CA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97B53-7033-4E1C-836F-2E15A838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0E2C1-7193-43EB-9510-8AC2AE60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8990-297A-48B2-96BA-5C550439744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38CC-E54A-44A5-BB81-3797261334F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E0C1-5AAB-4584-A4D5-ADA4F5F02BC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4920-6131-475B-AB49-E4239939E17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5F19-1550-4A3E-BDD1-8D8BBDF65A6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DEA6-504F-4DF8-92F1-8AE77FA44A3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9325-0168-4C26-BE2B-2AFA2A78C4C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B667-78D7-4BB3-B08E-9A9B39A69E7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in Qualitative Research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Shahaduz Zaman Ph.D.</a:t>
            </a:r>
            <a:br>
              <a:rPr sz="28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Newcastle University, UK </a:t>
            </a:r>
            <a:br>
              <a:rPr sz="28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AC71-ED7C-47F4-BEE7-152E57483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e siz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FAA1-1B11-4176-ADB3-DD4ADE1E7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many is enough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nough to do justice to the subject, no more, no les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2B69-4B45-4B6C-B41B-9ADAA671B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minutes interview with 200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v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hours interview with 2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24E1-E73B-4257-8A75-DB9BDE07D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ud’s ground breaking theory ‘Psychoanalysis’ 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d on 10 ca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udied over 5 years</a:t>
            </a:r>
            <a:br>
              <a:rPr sz="3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ule of the thumb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85CD-D008-4BE9-8F76-FDF6C22D0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fficie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Covering maximum variety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of respondents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tu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Point of redundancy in response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9393-3927-4D6D-8B42-BFE078848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ple determination is influenced by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Homogeneity of the group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Nature and experience of the researcher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22FF-E681-4184-A7BC-6374D5CA7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phenomenological Studie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At least 6 interviews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grounded theory Stud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12 interviews in each category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Greg Guest, Arwen Bunce and Laura Johnson (2006) Field Methods (18, 59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AF1E-CA51-4AE1-835C-495548EB7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arge samples selected random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e should be representative of some larger population to which one hopes to generalize research find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depth, small samples selected purposive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ing driven by the desire to illuminate questions under study, and to increase the scope or range of data expo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F565-E4CE-47AB-A4A0-F28EBB03A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gins with a relatively fixed theory, eg. An explanation for something that is to be tested. Theory tested in context of random sample, using large enough </a:t>
            </a:r>
            <a:r>
              <a:rPr b="0" i="1" lang="en-GB" sz="3600" spc="-1" strike="noStrike">
                <a:solidFill>
                  <a:srgbClr val="000000"/>
                </a:solidFill>
                <a:latin typeface="Gill Sans MT"/>
              </a:rPr>
              <a:t>N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monstrate statistical significanc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4720" y="2174760"/>
            <a:ext cx="4041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egins with ‘flexible’ theory, allowing for further revision/ decision regarding boundary of investigation, follows a process such as what data sources are ‘rich’, who should I talk to, what should I look at first. As research progresses, ask what data sources may confirm my understanding (theory) or challenge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mpling Strategies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8DBC-59FD-4E26-954D-11BC582A1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ximum var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eory based: Sampling in focused manner, based on a priory theory being evalu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firming/Disconfirming c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xtreme or deviant cas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ratified purposefu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nowball/Chain Samp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80F6-1D44-4B77-BF31-DB7187553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4" descr="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446E-4004-444A-AE6D-50CCD6A58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Diagram 5"/>
          <p:cNvGrpSpPr/>
          <p:nvPr/>
        </p:nvGrpSpPr>
        <p:grpSpPr>
          <a:xfrm>
            <a:off x="1044360" y="171360"/>
            <a:ext cx="7870680" cy="5091120"/>
            <a:chOff x="1044360" y="171360"/>
            <a:chExt cx="7870680" cy="5091120"/>
          </a:xfrm>
        </p:grpSpPr>
        <p:sp>
          <p:nvSpPr>
            <p:cNvPr id="363" name="_s1028"/>
            <p:cNvSpPr/>
            <p:nvPr/>
          </p:nvSpPr>
          <p:spPr>
            <a:xfrm>
              <a:off x="1044360" y="1597680"/>
              <a:ext cx="4885560" cy="3664800"/>
            </a:xfrm>
            <a:prstGeom prst="donut">
              <a:avLst>
                <a:gd name="adj" fmla="val 16666"/>
              </a:avLst>
            </a:prstGeom>
            <a:solidFill>
              <a:srgbClr val="4646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_s1029"/>
            <p:cNvSpPr/>
            <p:nvPr/>
          </p:nvSpPr>
          <p:spPr>
            <a:xfrm>
              <a:off x="7613640" y="180000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1030"/>
            <p:cNvSpPr/>
            <p:nvPr/>
          </p:nvSpPr>
          <p:spPr>
            <a:xfrm>
              <a:off x="1857240" y="2207160"/>
              <a:ext cx="3256920" cy="2442600"/>
            </a:xfrm>
            <a:prstGeom prst="donut">
              <a:avLst>
                <a:gd name="adj" fmla="val 25000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7613640" y="98568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ig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1032"/>
            <p:cNvSpPr/>
            <p:nvPr/>
          </p:nvSpPr>
          <p:spPr>
            <a:xfrm>
              <a:off x="2673000" y="2819160"/>
              <a:ext cx="1628280" cy="1221840"/>
            </a:xfrm>
            <a:prstGeom prst="ellipse">
              <a:avLst/>
            </a:prstGeom>
            <a:solidFill>
              <a:srgbClr val="b292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_s1033"/>
            <p:cNvSpPr/>
            <p:nvPr/>
          </p:nvSpPr>
          <p:spPr>
            <a:xfrm>
              <a:off x="7613640" y="17136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mp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776C-61DF-47BC-8112-9ABCBCAC8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rposive sampling should never be confused with sampling for convenien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Features of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49FC-5FD3-4FF5-B6A2-5E413B490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Qualitative sampling is systematic but flex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uided by clear research 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evolves as the study progres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B356-9DB9-4575-AE86-D6F8C47BE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units are selected serially. Who and what comes next depends on who and what comes befor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election continues to the point of redundancy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ualitative sampl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601D-8251-46A6-B904-5F7870556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ocess (Plan-Revis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agmatic (Time, money, personne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 considerations explicit/Justify what has been d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arning in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C46E-656C-40F8-B0F0-49A27B9DA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too th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selecting the exotic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fitting researchers ideal percep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es qualitative research present bias result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the Generalizibility  of qualitative research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100" spc="-1" strike="noStrike">
                <a:solidFill>
                  <a:srgbClr val="464653"/>
                </a:solidFill>
                <a:latin typeface="Bookman Old Style"/>
              </a:rPr>
              <a:t>Biases</a:t>
            </a:r>
            <a:endParaRPr b="0" lang="en-US" sz="3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ective Instru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server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lec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ffect of observ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Bias is (partly) unavoidabl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Dealing with bias in  Qualitative research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ferabil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Bookman Old Style"/>
              </a:rPr>
              <a:t>Types of triangulation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metho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resear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perspectiv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image_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Quantitative Sampling : Random Sampling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8C51-6021-4ECF-90C5-959916C0C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e that is representative in a statistical way of the whole population of intere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which each member of the population has an equal chances of being sel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Objectivity vs Reflexiv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ject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term generally implies maintaining distance between the observer and the observed and minimizing any possible influence of the researchers value on the process of inqui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Reflex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way of knowing that even as a co- participant in the inquiry the researcher has maintained the distinction between personal values and those of the participants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t suggests that there is a middle ground between becoming too involved which can cloud judgment, and remaining too distant, which can reduce understanding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earcher’s critical self awareness -is a vital process in which you question and observe yourself at the same time you listen to and observe the participan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Bookman Old Style"/>
              </a:rPr>
              <a:t>Generalizibility</a:t>
            </a:r>
            <a:endParaRPr b="0" lang="en-US" sz="2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t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atistic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tural Generalization (Transferability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Generalizibility vs Transferabil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eneralizi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findings of the research can be generalized to the wider population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ransfer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the conclusions of a study are transferable to other contex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Qualitative Sampling: Purposive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1AF4-20DF-464A-87FB-785D5D567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contrast to random sampling,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information ric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cases are selected according to the purpose of the stud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order to get a holistic picture sampling  includes a serious search for both positive and negative case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eoretical Sampl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to of qualitative 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D6F9-75E9-45C7-A0C2-18777AD1C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mall is beauti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t about littl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Aim of sampling in qualitative research 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6A7A-BD0D-43C8-8F90-FD5AF5EEA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he primary purpose of sampling is to collect specific cases, events, or actions that can clarify and deepen understa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16A9-7025-45CB-8804-3EF7A8B52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dth Versus Dep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oader range of experiences for a smaller number of peopl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uni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EA9B-ED08-44EE-A149-AA3CD0265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ntitative Sampling samples peop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litative Sampling samples people, time, sit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EBCA-ADA1-4ABA-B224-05CF59533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peopl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 cas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iant case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s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tim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y/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ason/Personal occurrence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1:02:25Z</dcterms:created>
  <dc:creator>Neeor</dc:creator>
  <dc:description/>
  <dc:language>en-US</dc:language>
  <cp:lastModifiedBy>Zaman</cp:lastModifiedBy>
  <dcterms:modified xsi:type="dcterms:W3CDTF">2013-12-11T21:12:33Z</dcterms:modified>
  <cp:revision>37</cp:revision>
  <dc:subject/>
  <dc:title>Selecting Unit of Study Sampling</dc:title>
</cp:coreProperties>
</file>